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257-4EE1-4D33-9794-B3E84901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E82-F09D-4CBF-8461-7093F7F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028-7168-487E-9A37-F936BC89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BF3-97A6-4D28-AEA9-585C214E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5C66-642C-451E-9319-E0CB95DF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3C8E-5D9A-4B3E-A54F-2D5C505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D7A4-C0AD-401B-BAAA-C3AEE816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E204-BEA3-4D1E-B050-519C8463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C002-B7FC-4EDE-8F4D-0BD46CA3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359-EB11-4B9C-917D-BD4FF405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49D3-315F-4FA1-9B0D-CFB1752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C2B-9BBA-4BFF-A34C-912F2681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BA57-B9C5-4753-AB62-D504E0C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36DA-2922-405D-9273-0276621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CDD0-6481-4978-A290-1CF448A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FC9C-9B80-473B-8DAF-6CCFC638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539-3C99-4ADE-AA66-862F1B0B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EE5-24F4-422F-A104-534A993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646-938F-495E-BB65-7B9E4D25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2B0-AF00-49B7-B3B0-3D86562D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A9B-698D-4B58-B3BC-C8484F7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738-938D-47A7-BBAF-A358991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DE6-D7B3-4426-8856-536BC2CF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9F4-8D19-4356-AEFB-E3BBA97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8B5-FB3B-4DA4-8BAD-A3E34EAB97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C34-B28A-4177-AA23-40711E301F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1E2D-A3E0-4EDA-8EA7-39162E08E8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66"/>
                </a:solidFill>
                <a:latin typeface="Arial"/>
              </a:rPr>
              <a:t>Monitoring and Evaluating Employee Wellness 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6" descr="hr_software_icon.jpg"/>
          <p:cNvPicPr/>
          <p:nvPr/>
        </p:nvPicPr>
        <p:blipFill>
          <a:blip r:embed="rId1"/>
          <a:stretch/>
        </p:blipFill>
        <p:spPr>
          <a:xfrm>
            <a:off x="4492800" y="2492280"/>
            <a:ext cx="3392280" cy="23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FEA6-DBC9-42E9-86C0-6E07BB8E82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09008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valuation proced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et measurable goals and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cide the evaluation information needed by company and employ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solve how data will be coll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who will analys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cide when to conduct the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velop surveys and record keeping t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port on the evaluation- 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</a:rPr>
              <a:t>make recommend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4075-4C63-4081-B7E0-83E9982BE4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to evalu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duced risk fac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articipant satisf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articipation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Effects on co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orkers compensation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Absenteeism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</a:rPr>
              <a:t>Corporate culture improv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orkplace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erceptions of health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urnover/ attraction/ retention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valuation of PEP should focus on initially what was done and how it was done, what was successful and what wasn’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edback from participants, including changes in health and fitness behaviour, needs to be collected and analys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udent activ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hat approaches can be used to evaluate project effectiveness and who should be informed about the outcomes of the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ow can project management experience be used as a basis for continuous impro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A338-7DA8-4EDB-A232-300F1E7524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26560" y="234936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Case study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Content Placeholder 6" descr="852978-archibald-prize-2011.jpg"/>
          <p:cNvPicPr/>
          <p:nvPr/>
        </p:nvPicPr>
        <p:blipFill>
          <a:blip r:embed="rId1"/>
          <a:stretch/>
        </p:blipFill>
        <p:spPr>
          <a:xfrm>
            <a:off x="4991040" y="2755800"/>
            <a:ext cx="3924360" cy="294660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3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490A-821C-4476-88A9-CA9C5207FC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62C5-CD0E-4D21-9191-969624C700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Jazzing it up for next time</a:t>
            </a:r>
            <a:r>
              <a:rPr b="1" lang="en-AU" sz="3600" spc="-1" strike="noStrike">
                <a:solidFill>
                  <a:srgbClr val="006666"/>
                </a:solidFill>
                <a:latin typeface="Times New Roman"/>
              </a:rPr>
              <a:t>…</a:t>
            </a: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6" descr="Continuous_Improv_diagram.jpg"/>
          <p:cNvPicPr/>
          <p:nvPr/>
        </p:nvPicPr>
        <p:blipFill>
          <a:blip r:embed="rId1"/>
          <a:stretch/>
        </p:blipFill>
        <p:spPr>
          <a:xfrm>
            <a:off x="1692360" y="2349360"/>
            <a:ext cx="4498920" cy="446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ontinuous.bmp"/>
          <p:cNvPicPr/>
          <p:nvPr/>
        </p:nvPicPr>
        <p:blipFill>
          <a:blip r:embed="rId2"/>
          <a:stretch/>
        </p:blipFill>
        <p:spPr>
          <a:xfrm>
            <a:off x="6372360" y="4095720"/>
            <a:ext cx="267156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7946-F295-4BC2-9FF0-6A46F364624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Monitoring progress during the proj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Regular status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entrally located planning calend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Widely distributed meeting min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erformance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romoting team member account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215B-5551-42BC-BCB3-522D42279F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Tracking the prog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43180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s project where it needs to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re tasks/cost exceeding estimates and dur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re more resources requir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re there major/minor varianc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nalyse the status of each project delive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Resolve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595-0F5E-4258-B970-4A803E7C85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Benefits of evaluat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o see if intervention work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monstrates cost /benefit of intervention- was it worth the cos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ompare different types of programs eg did you meet industry standards for quit smoking program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Give feedback (and inspiration to oth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o gain info which could be used for press releases, publicity, shareholder reports et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23C3-E968-47FA-A6CF-A0533E3637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The key to effective evaluation 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Develop the tools for evaluation while you are planning for the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itially the evaluation can be done on the short term results eg </a:t>
            </a:r>
            <a:r>
              <a:rPr b="0" lang="en-AU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did you participate and what you got out of it?</a:t>
            </a:r>
            <a:r>
              <a:rPr b="0" lang="en-AU" sz="28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and as programs expand or develop measuring longer term results such as retention , absenteeism , sick leave et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you are measur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f goals have been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f funds have been spent efficien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Timelines were accurate and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Content Placeholder 7" descr="Brand_ID_icon2.gif"/>
          <p:cNvPicPr/>
          <p:nvPr/>
        </p:nvPicPr>
        <p:blipFill>
          <a:blip r:embed="rId1"/>
          <a:stretch/>
        </p:blipFill>
        <p:spPr>
          <a:xfrm>
            <a:off x="4932360" y="2781360"/>
            <a:ext cx="3095640" cy="347004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1510-E297-4258-B08A-EFDC68B596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049E-EE1D-45DE-9E51-53FD1ACFA2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valuations al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art the success and progress  of the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rovide feedback for better budgeting, ti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Give opportunities to review program content and presenters, training, communication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2AD5-2E27-40B3-A6F8-209E74D8A55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Agenda for final project team mee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erformance (work scope, quality, managing chan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ost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chedule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roject planning and contr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takeholder/sponsor/client relations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ommunication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roblem identification and res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commendations for future projects  - continuous impro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DAE2-719A-4082-BFC1-4E908F736B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ich of the following apply in your cas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My company evaluation will need t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the cost of the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which programs are most eff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which programs are least eff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if the program met its go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Justify past and future expendi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Justify expa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2:37:20Z</dcterms:created>
  <dc:creator>Stephen Ford</dc:creator>
  <dc:description/>
  <dc:language>en-US</dc:language>
  <cp:lastModifiedBy>John</cp:lastModifiedBy>
  <dcterms:modified xsi:type="dcterms:W3CDTF">2011-10-24T23:30:17Z</dcterms:modified>
  <cp:revision>8</cp:revision>
  <dc:subject/>
  <dc:title>Monitoring and Evaluating Employee Wellness Programs</dc:title>
</cp:coreProperties>
</file>